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8CA3-46F6-4810-B330-F03ED141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03E1-1D85-498E-B2B3-9480D9C0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530-1504-4B8C-B345-33FEF111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2DA-D506-4E4E-83FC-3427B58A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0A25-37C8-4CE1-98E8-5E2E32C5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DB95-DAAC-4132-8F64-6FF8863E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71A5-771D-4EAD-A2D2-9FC8E439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65DD-F274-4F0C-8A71-3660DCDF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37ED-F03F-48E4-AE55-FE281A67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7785-8AB7-43CE-BB5D-FE2976D6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65CC-B48E-4172-ACF2-1066275D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8780-09AF-41A1-B244-44FE189E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9625-4202-448A-A23F-F552798A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E129-67A9-4DD2-8F24-EA3A98E1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5B4B-8AB8-4430-94E4-C9B78771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7634-B1DB-43B8-8383-D73C3510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D001-4A2D-4E2F-B49C-64423464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B71-FB9A-48B6-8CF3-CA88337F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6499-B1D3-489D-BB93-1BD49D76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8A5-5042-49AD-8372-10AA1BD0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49A7-E09A-4C4E-B6D5-1A81CB74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93FE-43D3-44EA-9171-FBEA6616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35F8-7833-41EC-A679-94499044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1EA-61B6-4828-983D-48DEECEA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C8A5-876B-482E-9DF4-4EFBC4DCB3F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2C2D-C02E-48C4-A89F-2228901B84E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16000" y="0"/>
            <a:ext cx="6840720" cy="79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Romance Fronteri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El suspiro del mor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Romance del Rey Chico que perdió a Granad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año de cuatrocien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noventa y dos corr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rey Chico de Grana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erdió el reino que ten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alióse de la ciud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 lunes a mediod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ercado de caball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flor de la mor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 madre lleva consi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la tiene compañía.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or ese Genil abaj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el rey Chico se sal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os estribos se han moj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eran de gran val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63640" y="0"/>
            <a:ext cx="4364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or mostrar más su dol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en el corazón ten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aquesa áspera Alpujar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ra su jornada y ví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de una cuesta muy al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Granada se parecía;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vió a mirar a Granad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ta manera dec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Oh Granada la famos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i consuelo y alegrí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oh mi alto Albaicí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mi rica Alcaicería!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oh mi Alhambra y Alija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mezquita de valía!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mis baños, huertas y rí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onde olgar me solía!;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3640" y="0"/>
            <a:ext cx="5600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¿quién os ha de mí apart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jamás yo os vería?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hora te estoy miran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de lejos, ciudad mí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as presto no te veré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ues ya de ti me part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Oh rueda de la fortun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oco es quien en ti f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ayer era rey famo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hoy no tengo cosa mía!”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empre el triste coraz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loraba su cobard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estas palabras dicie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 desmayo se ca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ba su madre delan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08000" y="189000"/>
            <a:ext cx="42530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 otra caballerí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iendo la gente parad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reina se deten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la causa pregunta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orque ella no lo sab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spondióle un moro viej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 honesta cortes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u hijo mira a Gra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la pena le afligí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spondido había la madr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ta manera dec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ien es que como muj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lore con grande agon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que como caball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 estado no defendía”.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2:20:44Z</dcterms:created>
  <dc:creator> </dc:creator>
  <dc:description/>
  <dc:language>en-US</dc:language>
  <cp:lastModifiedBy>-</cp:lastModifiedBy>
  <dcterms:modified xsi:type="dcterms:W3CDTF">2008-10-06T23:30:30Z</dcterms:modified>
  <cp:revision>4</cp:revision>
  <dc:subject/>
  <dc:title>Diapositiva 1</dc:title>
</cp:coreProperties>
</file>